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94A-DEA0-41E3-9E8A-64CC807C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FE5B-5ACD-455E-8039-775B416D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D07-C355-403C-A93E-B2E29CF3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1CA-3905-4378-ADC0-7EB524B5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710-BB09-4FDF-8978-22738D6E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A5B-93E7-467D-9F64-4F2CFFED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7DB-0C6E-4D2D-823C-040052C2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5BF-0815-483D-BA32-FD763A00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3CB-606E-4C3E-8152-EF26709C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9F2-BFF0-4DBC-A01A-A3B8BD53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662-529F-4797-9002-1C492E90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C2A-854E-41B8-90CE-9FAE15F9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77E2-9872-45AE-B38E-91910B80263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e 1"/>
          <p:cNvSpPr/>
          <p:nvPr/>
        </p:nvSpPr>
        <p:spPr>
          <a:xfrm>
            <a:off x="2700360" y="1557360"/>
            <a:ext cx="3456000" cy="345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nettore 1 3"/>
          <p:cNvSpPr/>
          <p:nvPr/>
        </p:nvSpPr>
        <p:spPr>
          <a:xfrm>
            <a:off x="2700360" y="3284640"/>
            <a:ext cx="34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asellaDiTesto 4"/>
          <p:cNvSpPr/>
          <p:nvPr/>
        </p:nvSpPr>
        <p:spPr>
          <a:xfrm>
            <a:off x="2843280" y="1959120"/>
            <a:ext cx="3168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Condizio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condizione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condizione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asellaDiTesto 5"/>
          <p:cNvSpPr/>
          <p:nvPr/>
        </p:nvSpPr>
        <p:spPr>
          <a:xfrm>
            <a:off x="2690640" y="3314880"/>
            <a:ext cx="347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Reazio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reazione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reazione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reccia in giù 8"/>
          <p:cNvSpPr/>
          <p:nvPr/>
        </p:nvSpPr>
        <p:spPr>
          <a:xfrm>
            <a:off x="3995640" y="404640"/>
            <a:ext cx="863640" cy="936720"/>
          </a:xfrm>
          <a:prstGeom prst="downArrow">
            <a:avLst>
              <a:gd name="adj1" fmla="val 50000"/>
              <a:gd name="adj2" fmla="val 500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reccia in giù 9"/>
          <p:cNvSpPr/>
          <p:nvPr/>
        </p:nvSpPr>
        <p:spPr>
          <a:xfrm rot="18900000">
            <a:off x="5579640" y="4635000"/>
            <a:ext cx="863640" cy="936720"/>
          </a:xfrm>
          <a:prstGeom prst="downArrow">
            <a:avLst>
              <a:gd name="adj1" fmla="val 50000"/>
              <a:gd name="adj2" fmla="val 500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ccia in giù 10"/>
          <p:cNvSpPr/>
          <p:nvPr/>
        </p:nvSpPr>
        <p:spPr>
          <a:xfrm>
            <a:off x="3995640" y="5272200"/>
            <a:ext cx="863640" cy="93636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ccia in giù 11"/>
          <p:cNvSpPr/>
          <p:nvPr/>
        </p:nvSpPr>
        <p:spPr>
          <a:xfrm rot="2700000">
            <a:off x="2412360" y="4636080"/>
            <a:ext cx="863640" cy="93528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2"/>
          <p:cNvSpPr/>
          <p:nvPr/>
        </p:nvSpPr>
        <p:spPr>
          <a:xfrm>
            <a:off x="6154560" y="155736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Azio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uppo 7"/>
          <p:cNvGrpSpPr/>
          <p:nvPr/>
        </p:nvGrpSpPr>
        <p:grpSpPr>
          <a:xfrm>
            <a:off x="539640" y="404640"/>
            <a:ext cx="8386920" cy="5784840"/>
            <a:chOff x="539640" y="404640"/>
            <a:chExt cx="8386920" cy="5784840"/>
          </a:xfrm>
        </p:grpSpPr>
        <p:sp>
          <p:nvSpPr>
            <p:cNvPr id="53" name="Ovale 1"/>
            <p:cNvSpPr/>
            <p:nvPr/>
          </p:nvSpPr>
          <p:spPr>
            <a:xfrm rot="18000000">
              <a:off x="2700000" y="1556280"/>
              <a:ext cx="3456720" cy="3456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Connettore 1 3"/>
            <p:cNvSpPr/>
            <p:nvPr/>
          </p:nvSpPr>
          <p:spPr>
            <a:xfrm flipV="1">
              <a:off x="3564360" y="1788480"/>
              <a:ext cx="1728360" cy="29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CasellaDiTesto 4"/>
            <p:cNvSpPr/>
            <p:nvPr/>
          </p:nvSpPr>
          <p:spPr>
            <a:xfrm>
              <a:off x="2196000" y="2075040"/>
              <a:ext cx="3168720" cy="13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Calibri"/>
                </a:rPr>
                <a:t>Condizion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ff"/>
                  </a:solidFill>
                  <a:latin typeface="Calibri"/>
                </a:rPr>
                <a:t>condizione 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ff"/>
                  </a:solidFill>
                  <a:latin typeface="Calibri"/>
                </a:rPr>
                <a:t>condizione 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CasellaDiTesto 5"/>
            <p:cNvSpPr/>
            <p:nvPr/>
          </p:nvSpPr>
          <p:spPr>
            <a:xfrm>
              <a:off x="3472920" y="3141360"/>
              <a:ext cx="34761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Calibri"/>
                </a:rPr>
                <a:t>Reazion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ff"/>
                  </a:solidFill>
                  <a:latin typeface="Calibri"/>
                </a:rPr>
                <a:t>reazione 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ff"/>
                  </a:solidFill>
                  <a:latin typeface="Calibri"/>
                </a:rPr>
                <a:t>reazione 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ccia in giù 8"/>
            <p:cNvSpPr/>
            <p:nvPr/>
          </p:nvSpPr>
          <p:spPr>
            <a:xfrm>
              <a:off x="3996360" y="404640"/>
              <a:ext cx="864000" cy="936000"/>
            </a:xfrm>
            <a:prstGeom prst="downArrow">
              <a:avLst>
                <a:gd name="adj1" fmla="val 50000"/>
                <a:gd name="adj2" fmla="val 4999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ccia in giù 9"/>
            <p:cNvSpPr/>
            <p:nvPr/>
          </p:nvSpPr>
          <p:spPr>
            <a:xfrm rot="18900000">
              <a:off x="6072840" y="4173480"/>
              <a:ext cx="864000" cy="936000"/>
            </a:xfrm>
            <a:prstGeom prst="downArrow">
              <a:avLst>
                <a:gd name="adj1" fmla="val 50000"/>
                <a:gd name="adj2" fmla="val 4999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ccia in giù 10"/>
            <p:cNvSpPr/>
            <p:nvPr/>
          </p:nvSpPr>
          <p:spPr>
            <a:xfrm rot="19885800">
              <a:off x="5213880" y="4878720"/>
              <a:ext cx="864000" cy="936000"/>
            </a:xfrm>
            <a:prstGeom prst="downArrow">
              <a:avLst>
                <a:gd name="adj1" fmla="val 50000"/>
                <a:gd name="adj2" fmla="val 4999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ccia in giù 11"/>
            <p:cNvSpPr/>
            <p:nvPr/>
          </p:nvSpPr>
          <p:spPr>
            <a:xfrm rot="2700000">
              <a:off x="1968120" y="4173480"/>
              <a:ext cx="864000" cy="936000"/>
            </a:xfrm>
            <a:prstGeom prst="downArrow">
              <a:avLst>
                <a:gd name="adj1" fmla="val 50000"/>
                <a:gd name="adj2" fmla="val 4999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CasellaDiTesto 12"/>
            <p:cNvSpPr/>
            <p:nvPr/>
          </p:nvSpPr>
          <p:spPr>
            <a:xfrm>
              <a:off x="6155640" y="1556640"/>
              <a:ext cx="223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4000" spc="-1" strike="noStrike">
                  <a:solidFill>
                    <a:srgbClr val="000000"/>
                  </a:solidFill>
                  <a:latin typeface="Calibri"/>
                </a:rPr>
                <a:t>Azion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CasellaDiTesto 6"/>
            <p:cNvSpPr/>
            <p:nvPr/>
          </p:nvSpPr>
          <p:spPr>
            <a:xfrm>
              <a:off x="539640" y="5272560"/>
              <a:ext cx="273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Condizioni non verificate: skip all’azione successiv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CasellaDiTesto 13"/>
            <p:cNvSpPr/>
            <p:nvPr/>
          </p:nvSpPr>
          <p:spPr>
            <a:xfrm>
              <a:off x="6190200" y="5272560"/>
              <a:ext cx="273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Condizioni verificate: </a:t>
              </a:r>
              <a:br>
                <a:rPr sz="1800"/>
              </a:b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Applicazione delle reazioni, Skip all’azione successiv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uppo 15"/>
          <p:cNvGrpSpPr/>
          <p:nvPr/>
        </p:nvGrpSpPr>
        <p:grpSpPr>
          <a:xfrm>
            <a:off x="179280" y="188640"/>
            <a:ext cx="4100760" cy="3213360"/>
            <a:chOff x="179280" y="188640"/>
            <a:chExt cx="4100760" cy="3213360"/>
          </a:xfrm>
        </p:grpSpPr>
        <p:sp>
          <p:nvSpPr>
            <p:cNvPr id="65" name="Ovale 1"/>
            <p:cNvSpPr/>
            <p:nvPr/>
          </p:nvSpPr>
          <p:spPr>
            <a:xfrm>
              <a:off x="2845440" y="677880"/>
              <a:ext cx="422640" cy="422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vale 2"/>
            <p:cNvSpPr/>
            <p:nvPr/>
          </p:nvSpPr>
          <p:spPr>
            <a:xfrm>
              <a:off x="2845440" y="1576080"/>
              <a:ext cx="422640" cy="422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Ovale 3"/>
            <p:cNvSpPr/>
            <p:nvPr/>
          </p:nvSpPr>
          <p:spPr>
            <a:xfrm>
              <a:off x="2845440" y="2012400"/>
              <a:ext cx="422640" cy="422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Ovale 4"/>
            <p:cNvSpPr/>
            <p:nvPr/>
          </p:nvSpPr>
          <p:spPr>
            <a:xfrm>
              <a:off x="2845440" y="2489040"/>
              <a:ext cx="422640" cy="422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vale 5"/>
            <p:cNvSpPr/>
            <p:nvPr/>
          </p:nvSpPr>
          <p:spPr>
            <a:xfrm>
              <a:off x="2845440" y="1141200"/>
              <a:ext cx="422640" cy="422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CasellaDiTesto 6"/>
            <p:cNvSpPr/>
            <p:nvPr/>
          </p:nvSpPr>
          <p:spPr>
            <a:xfrm>
              <a:off x="3268440" y="461160"/>
              <a:ext cx="10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Azion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ccia circolare a sinistra 9"/>
            <p:cNvSpPr/>
            <p:nvPr/>
          </p:nvSpPr>
          <p:spPr>
            <a:xfrm rot="16200000">
              <a:off x="1823760" y="-694800"/>
              <a:ext cx="446760" cy="2214360"/>
            </a:xfrm>
            <a:custGeom>
              <a:avLst/>
              <a:gdLst>
                <a:gd name="textAreaLeft" fmla="*/ 59760 w 446760"/>
                <a:gd name="textAreaRight" fmla="*/ 387000 w 446760"/>
                <a:gd name="textAreaTop" fmla="*/ 511560 h 2214360"/>
                <a:gd name="textAreaBottom" fmla="*/ 1647000 h 22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983" stAng="-5400000" swAng="5400000"/>
                  <a:lnTo>
                    <a:pt x="21600" y="11072"/>
                  </a:lnTo>
                  <a:arcTo wR="21600" hR="9983" stAng="0" swAng="3648581"/>
                  <a:lnTo>
                    <a:pt x="5400" y="21283"/>
                  </a:lnTo>
                  <a:lnTo>
                    <a:pt x="0" y="20511"/>
                  </a:lnTo>
                  <a:lnTo>
                    <a:pt x="5400" y="19104"/>
                  </a:lnTo>
                  <a:lnTo>
                    <a:pt x="5400" y="19649"/>
                  </a:lnTo>
                  <a:arcTo wR="21600" hR="9983" stAng="3648581" swAng="-3561810"/>
                  <a:lnTo>
                    <a:pt x="21568" y="10528"/>
                  </a:lnTo>
                  <a:arcTo wR="21600" hR="9983" stAng="-86771" swAng="-5313229"/>
                  <a:close/>
                </a:path>
                <a:path fill="darkenLess" w="21600" h="21600">
                  <a:moveTo>
                    <a:pt x="0" y="0"/>
                  </a:moveTo>
                  <a:arcTo wR="21600" hR="9983" stAng="-5400000" swAng="5400000"/>
                  <a:lnTo>
                    <a:pt x="21600" y="11072"/>
                  </a:lnTo>
                  <a:arcTo wR="21600" hR="9983" stAng="0" swAng="-86771"/>
                  <a:lnTo>
                    <a:pt x="21568" y="10528"/>
                  </a:lnTo>
                  <a:arcTo wR="21600" hR="9983" stAng="-86771" swAng="-531322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ccia circolare a sinistra 10"/>
            <p:cNvSpPr/>
            <p:nvPr/>
          </p:nvSpPr>
          <p:spPr>
            <a:xfrm rot="5400000">
              <a:off x="1781280" y="2071080"/>
              <a:ext cx="446760" cy="2214360"/>
            </a:xfrm>
            <a:custGeom>
              <a:avLst/>
              <a:gdLst>
                <a:gd name="textAreaLeft" fmla="*/ 59760 w 446760"/>
                <a:gd name="textAreaRight" fmla="*/ 387000 w 446760"/>
                <a:gd name="textAreaTop" fmla="*/ 511560 h 2214360"/>
                <a:gd name="textAreaBottom" fmla="*/ 1647000 h 22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983" stAng="-5400000" swAng="5400000"/>
                  <a:lnTo>
                    <a:pt x="21600" y="11072"/>
                  </a:lnTo>
                  <a:arcTo wR="21600" hR="9983" stAng="0" swAng="3648581"/>
                  <a:lnTo>
                    <a:pt x="5400" y="21283"/>
                  </a:lnTo>
                  <a:lnTo>
                    <a:pt x="0" y="20511"/>
                  </a:lnTo>
                  <a:lnTo>
                    <a:pt x="5400" y="19104"/>
                  </a:lnTo>
                  <a:lnTo>
                    <a:pt x="5400" y="19649"/>
                  </a:lnTo>
                  <a:arcTo wR="21600" hR="9983" stAng="3648581" swAng="-3561810"/>
                  <a:lnTo>
                    <a:pt x="21568" y="10528"/>
                  </a:lnTo>
                  <a:arcTo wR="21600" hR="9983" stAng="-86771" swAng="-5313229"/>
                  <a:close/>
                </a:path>
                <a:path fill="darkenLess" w="21600" h="21600">
                  <a:moveTo>
                    <a:pt x="0" y="0"/>
                  </a:moveTo>
                  <a:arcTo wR="21600" hR="9983" stAng="-5400000" swAng="5400000"/>
                  <a:lnTo>
                    <a:pt x="21600" y="11072"/>
                  </a:lnTo>
                  <a:arcTo wR="21600" hR="9983" stAng="0" swAng="-86771"/>
                  <a:lnTo>
                    <a:pt x="21568" y="10528"/>
                  </a:lnTo>
                  <a:arcTo wR="21600" hR="9983" stAng="-86771" swAng="-531322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ttangolo arrotondato 11"/>
            <p:cNvSpPr/>
            <p:nvPr/>
          </p:nvSpPr>
          <p:spPr>
            <a:xfrm>
              <a:off x="221400" y="951840"/>
              <a:ext cx="760680" cy="462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Calibri"/>
                </a:rPr>
                <a:t>Stati Globali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ttangolo arrotondato 12"/>
            <p:cNvSpPr/>
            <p:nvPr/>
          </p:nvSpPr>
          <p:spPr>
            <a:xfrm>
              <a:off x="179280" y="738360"/>
              <a:ext cx="1648800" cy="2172960"/>
            </a:xfrm>
            <a:custGeom>
              <a:avLst/>
              <a:gdLst>
                <a:gd name="textAreaLeft" fmla="*/ 80280 w 1648800"/>
                <a:gd name="textAreaRight" fmla="*/ 1568520 w 1648800"/>
                <a:gd name="textAreaTop" fmla="*/ 80280 h 2172960"/>
                <a:gd name="textAreaBottom" fmla="*/ 2092680 h 2172960"/>
              </a:gdLst>
              <a:ahLst/>
              <a:rect l="textAreaLeft" t="textAreaTop" r="textAreaRight" b="textAreaBottom"/>
              <a:pathLst>
                <a:path w="21600" h="28465">
                  <a:moveTo>
                    <a:pt x="3600" y="0"/>
                  </a:moveTo>
                  <a:arcTo wR="3600" hR="3600" stAng="16200000" swAng="-5400000"/>
                  <a:lnTo>
                    <a:pt x="0" y="24865"/>
                  </a:lnTo>
                  <a:arcTo wR="3600" hR="3600" stAng="10800000" swAng="-5400000"/>
                  <a:lnTo>
                    <a:pt x="18000" y="284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ttangolo arrotondato 13"/>
            <p:cNvSpPr/>
            <p:nvPr/>
          </p:nvSpPr>
          <p:spPr>
            <a:xfrm>
              <a:off x="217440" y="1521000"/>
              <a:ext cx="760680" cy="462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Calibri"/>
                </a:rPr>
                <a:t>Lingua corren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ttangolo arrotondato 14"/>
            <p:cNvSpPr/>
            <p:nvPr/>
          </p:nvSpPr>
          <p:spPr>
            <a:xfrm>
              <a:off x="221400" y="2075400"/>
              <a:ext cx="760680" cy="462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Calibri"/>
                </a:rPr>
                <a:t>....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uppo 16"/>
          <p:cNvGrpSpPr/>
          <p:nvPr/>
        </p:nvGrpSpPr>
        <p:grpSpPr>
          <a:xfrm>
            <a:off x="3132000" y="3213000"/>
            <a:ext cx="5977080" cy="3469680"/>
            <a:chOff x="3132000" y="3213000"/>
            <a:chExt cx="5977080" cy="3469680"/>
          </a:xfrm>
        </p:grpSpPr>
        <p:sp>
          <p:nvSpPr>
            <p:cNvPr id="78" name="Ovale 17"/>
            <p:cNvSpPr/>
            <p:nvPr/>
          </p:nvSpPr>
          <p:spPr>
            <a:xfrm rot="18000000">
              <a:off x="4849920" y="3860640"/>
              <a:ext cx="1943280" cy="19429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onnettore 1 18"/>
            <p:cNvSpPr/>
            <p:nvPr/>
          </p:nvSpPr>
          <p:spPr>
            <a:xfrm flipV="1">
              <a:off x="5336280" y="3990600"/>
              <a:ext cx="971280" cy="16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CasellaDiTesto 19"/>
            <p:cNvSpPr/>
            <p:nvPr/>
          </p:nvSpPr>
          <p:spPr>
            <a:xfrm>
              <a:off x="4566960" y="4151880"/>
              <a:ext cx="178092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Calibri"/>
                </a:rPr>
                <a:t>Condizioni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100" spc="-1" strike="noStrike">
                  <a:solidFill>
                    <a:srgbClr val="ffffff"/>
                  </a:solidFill>
                  <a:latin typeface="Calibri"/>
                </a:rPr>
                <a:t>condizione 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1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100" spc="-1" strike="noStrike">
                  <a:solidFill>
                    <a:srgbClr val="ffffff"/>
                  </a:solidFill>
                  <a:latin typeface="Calibri"/>
                </a:rPr>
                <a:t>condizione 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CasellaDiTesto 20"/>
            <p:cNvSpPr/>
            <p:nvPr/>
          </p:nvSpPr>
          <p:spPr>
            <a:xfrm>
              <a:off x="5284800" y="4751280"/>
              <a:ext cx="19537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Calibri"/>
                </a:rPr>
                <a:t>Reazioni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100" spc="-1" strike="noStrike">
                  <a:solidFill>
                    <a:srgbClr val="ffffff"/>
                  </a:solidFill>
                  <a:latin typeface="Calibri"/>
                </a:rPr>
                <a:t>reazione 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1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100" spc="-1" strike="noStrike">
                  <a:solidFill>
                    <a:srgbClr val="ffffff"/>
                  </a:solidFill>
                  <a:latin typeface="Calibri"/>
                </a:rPr>
                <a:t>reazione 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ccia in giù 21"/>
            <p:cNvSpPr/>
            <p:nvPr/>
          </p:nvSpPr>
          <p:spPr>
            <a:xfrm>
              <a:off x="5578920" y="3213000"/>
              <a:ext cx="485640" cy="525960"/>
            </a:xfrm>
            <a:prstGeom prst="downArrow">
              <a:avLst>
                <a:gd name="adj1" fmla="val 50000"/>
                <a:gd name="adj2" fmla="val 4998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ccia in giù 22"/>
            <p:cNvSpPr/>
            <p:nvPr/>
          </p:nvSpPr>
          <p:spPr>
            <a:xfrm rot="18900000">
              <a:off x="6746040" y="5331600"/>
              <a:ext cx="485640" cy="525960"/>
            </a:xfrm>
            <a:prstGeom prst="downArrow">
              <a:avLst>
                <a:gd name="adj1" fmla="val 50000"/>
                <a:gd name="adj2" fmla="val 4998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ccia in giù 23"/>
            <p:cNvSpPr/>
            <p:nvPr/>
          </p:nvSpPr>
          <p:spPr>
            <a:xfrm rot="19885800">
              <a:off x="6263640" y="5727960"/>
              <a:ext cx="485640" cy="525960"/>
            </a:xfrm>
            <a:prstGeom prst="downArrow">
              <a:avLst>
                <a:gd name="adj1" fmla="val 50000"/>
                <a:gd name="adj2" fmla="val 4998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ccia in giù 24"/>
            <p:cNvSpPr/>
            <p:nvPr/>
          </p:nvSpPr>
          <p:spPr>
            <a:xfrm rot="2700000">
              <a:off x="4438440" y="5331600"/>
              <a:ext cx="485640" cy="525960"/>
            </a:xfrm>
            <a:prstGeom prst="downArrow">
              <a:avLst>
                <a:gd name="adj1" fmla="val 50000"/>
                <a:gd name="adj2" fmla="val 4998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CasellaDiTesto 25"/>
            <p:cNvSpPr/>
            <p:nvPr/>
          </p:nvSpPr>
          <p:spPr>
            <a:xfrm>
              <a:off x="6792840" y="3860640"/>
              <a:ext cx="12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</a:rPr>
                <a:t>Azion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CasellaDiTesto 26"/>
            <p:cNvSpPr/>
            <p:nvPr/>
          </p:nvSpPr>
          <p:spPr>
            <a:xfrm>
              <a:off x="3132000" y="5949360"/>
              <a:ext cx="215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Condizioni non verificate: Skip all’azione successiv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asellaDiTesto 27"/>
            <p:cNvSpPr/>
            <p:nvPr/>
          </p:nvSpPr>
          <p:spPr>
            <a:xfrm>
              <a:off x="6811920" y="5949360"/>
              <a:ext cx="2297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Condizioni verificate: </a:t>
              </a:r>
              <a:br>
                <a:rPr sz="1400"/>
              </a:b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Applicazione delle reazioni, Skip all’azione successiv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uppo 35"/>
          <p:cNvGrpSpPr/>
          <p:nvPr/>
        </p:nvGrpSpPr>
        <p:grpSpPr>
          <a:xfrm>
            <a:off x="2697120" y="635040"/>
            <a:ext cx="6267600" cy="6053040"/>
            <a:chOff x="2697120" y="635040"/>
            <a:chExt cx="6267600" cy="6053040"/>
          </a:xfrm>
        </p:grpSpPr>
        <p:sp>
          <p:nvSpPr>
            <p:cNvPr id="90" name="Rettangolo 28"/>
            <p:cNvSpPr/>
            <p:nvPr/>
          </p:nvSpPr>
          <p:spPr>
            <a:xfrm>
              <a:off x="2697120" y="635040"/>
              <a:ext cx="720000" cy="51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ttangolo 29"/>
            <p:cNvSpPr/>
            <p:nvPr/>
          </p:nvSpPr>
          <p:spPr>
            <a:xfrm>
              <a:off x="3057120" y="3178080"/>
              <a:ext cx="5907600" cy="351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Connettore 1 31"/>
            <p:cNvSpPr/>
            <p:nvPr/>
          </p:nvSpPr>
          <p:spPr>
            <a:xfrm>
              <a:off x="2697120" y="1154880"/>
              <a:ext cx="360000" cy="202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Connettore 1 32"/>
            <p:cNvSpPr/>
            <p:nvPr/>
          </p:nvSpPr>
          <p:spPr>
            <a:xfrm>
              <a:off x="3417120" y="635040"/>
              <a:ext cx="5547600" cy="25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2T10:37:22Z</dcterms:created>
  <dc:creator>cristian</dc:creator>
  <dc:description/>
  <dc:language>en-US</dc:language>
  <cp:lastModifiedBy>cristian</cp:lastModifiedBy>
  <dcterms:modified xsi:type="dcterms:W3CDTF">2013-09-02T11:44:44Z</dcterms:modified>
  <cp:revision>3</cp:revision>
  <dc:subject/>
  <dc:title>Presentazione standard di PowerPoint</dc:title>
</cp:coreProperties>
</file>